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463320"/>
            <a:ext cx="8607600" cy="1734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tö opetuksen ja ohjauksen tuken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Tiina, Tarja, Tari ja Sirp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yvä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Opetus monipuolis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ynnys tietokoneeseen madaltu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Materiaalin saa blogiin opiskelijoiden saatavi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Opiskelumotivaatio lisäänty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Erilainen oppimisympäristö, tukee erilaisia oppimistap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6.Tiedon jakaminen muille helppo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7. Opiskelijoiden toistensa kannustam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8. Oman oppimista seura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käytön huonot puole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Työlä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Käytön haastavu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Ei tue kaikkia opiskelumuo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Tarvittavat muut ohjelmat ja ympäristö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yläkoulu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välttämättä sovellu kaikkeen eikä ehkä yläkoulussa tapahtuvaan opiskeluu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tivaation merkit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yhmätöiden tekemiseen wiki ja käsite-kart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ä voisi käyttää yläkoulussa esim. Koetilante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indmap: http://mind42.com/pub/mindmap?mid=ec834bcc-1e83-4cc3-935b-7f5aa73c295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Pohdint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18920"/>
            <a:ext cx="84182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ympäristö on tuttu ympäristö opiskelijoille, käyttö opintojen tukemiseen on luonnollis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 edellyttää aktiivista ja dialogista työskentelyä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 tukee oppimisprosessia “etupainotteisesti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hjauksen luonne on reaktiivista, eikä se kohdistu oppimisen ohjaukseen, vaan näkyvään toimintaa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aasteeksi muodostuu opiskelijoiden tietotekniset valmiud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isältö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 Johdant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 Oppimisympäristö ja oppimisen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 Affordanssiteor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 Blogin pedagoginen käytettävyy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 Pohdin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äh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Johdanto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etus yhä merkitsevämmäksi osaksi opetusta eri kouluastei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alustat ovat helppokäyttöisiä ja mahdollistaa osallistumisen keskusteluih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t soveltuvat hyvin opetuskäyttöö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atii opettajilta kouluttautumista ja taitojen kehittämistä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“läsnäolo” tehtävä näkyväks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-42444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yön tavoite esimerkin avulla kuvata blogin käyttöä opetuksess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500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463320"/>
            <a:ext cx="8607600" cy="17348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ympäristö ja oppimisen strategi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ietoisia kognitiivisia toimintoja, joiden avulla oppija pyrkii saavuttamaan oppimis-tehtävälle asettamansa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mmärtävän oppimisen voi saavuttaa todennäköisemmin käyttämällä oppimisen strategioit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pimisympäristö ohjaa oppijan käyttämien strategioiden valinta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yperteksti ei tuota parempaa oppimista, vaan merkityksellisiä ovat tekstin prosessoinnin strategi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Oppimisen strategiat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Harjoittelu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Eloborointi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Organisointi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4. Metakognitiiviset strategi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5. Affektiiviset strategia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kko-oppimisympäristössä on helppo havaita omaa ja muiden toiminta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1480"/>
                <a:tab algn="l" pos="60660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n on helppo havaita, miten kukin oppija etenee ja milloin tukea tarvitaa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koittaa toimijan ja ympäristön välistä vuorovaikutusta, jolloin huomioidaan opiskelijan ominaisuudet ja tarpeet sekä ympäristön tarjoamat mahdollisuud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ivät ole ympäristön tai yksilön ominaisuuksia, resursseja tai piirteitä,   vaan muodostuvat vuorovaikutuksessa, havaitsemisessa, toiminnasssa, oppimisessa näiden väli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Affordanssiteor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n tärkein käyttömahdollisuus on tiedon jakaminen tietylle intressiryhmäl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 ei mahdollista reaaliaikaista läsnä- oloa, mutta asynkroninen keskustelu ja kommentointi kuuluvat blogin teknisiin omi-naisuuksi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login pedagoginen käytettävyys lukion 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äytettävyys on mitta siitä, miten hyvin  käyttäjät voivat käyttää esim. oppimis-ympäristöä opiskelussa ja samalla saavuttaa asetetut tavoitte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imerkkinä lukio-opintojen tukena kurssi-blogin käyttö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pettaja aktiiivinen osallistuja, aktivoimalla ja kannustamall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Esimerkkinä blogi lukio-opinnoiss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gista löytyisi tunneilla käyty materiaali, jos opiskelija joutuu olemaan poi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urssiblogin sisältö;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ilmoitustaulu, jonne mm. tehtävä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keskustelukanav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palautekanava, kaksisuuntain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vinkit mm. julkaisuja tai vanhoja ylioppilaskokeit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linkki opiskelijan omaan oppimisblogii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0040" indent="0">
              <a:lnSpc>
                <a:spcPct val="93000"/>
              </a:lnSpc>
              <a:buNone/>
              <a:tabLst>
                <a:tab algn="l" pos="0"/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imisi ainakin osana lukio-opintoj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5:47:20Z</dcterms:created>
  <dc:creator>Sirpa Erkkilä-Häkkinen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